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4.png" ContentType="image/png"/>
  <Override PartName="/ppt/media/image1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5A5-CD1A-4FBA-AFE1-29AAEC3F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353E-C423-484E-932D-3C022766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2B6-EF7D-4A9D-8495-444EFBCA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4831-6496-4B02-9E0D-E1E3D25A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EDE5-3D1A-4019-97C5-681FF2FF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ABBB-1072-4BE0-858A-5EA6987E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C1E5-8B1D-46C9-B4FE-CDACAEBC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0448-4AD3-44B1-8B48-78B575D9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2A84-69D5-4750-8223-6B1B3617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E4D2-0233-49C9-B651-21BFB370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D94C-C6B5-433A-88C5-E1F4D2DF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F8CF-63A9-4F20-B573-C9E85F12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E34E-3C60-49C2-B75B-135C1EC5D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3t.org/studentpage/studentpagehold_assets/video%20tutorial.pdf" TargetMode="External"/><Relationship Id="rId2" Type="http://schemas.openxmlformats.org/officeDocument/2006/relationships/hyperlink" Target="http://www.e3t.org/studentpage/studentpagehold_assets/video%20tutorial.pdf" TargetMode="External"/><Relationship Id="rId3" Type="http://schemas.openxmlformats.org/officeDocument/2006/relationships/hyperlink" Target="http://www.e3t.org/studentpage/studentpagehold_assets/video%20tutorial.pdf" TargetMode="External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askschools.ca/resources/techref/moviemaker/movie.html" TargetMode="External"/><Relationship Id="rId2" Type="http://schemas.openxmlformats.org/officeDocument/2006/relationships/hyperlink" Target="http://movies.atomiclearning.com/k12/moviemaker2/" TargetMode="External"/><Relationship Id="rId3" Type="http://schemas.openxmlformats.org/officeDocument/2006/relationships/hyperlink" Target="http://www.jakesonline.org/visual_lit.htm" TargetMode="External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3t.org/studentpage/studentpagehold_assets/video%20tutorial.pdf" TargetMode="External"/><Relationship Id="rId2" Type="http://schemas.openxmlformats.org/officeDocument/2006/relationships/hyperlink" Target="http://www.e3t.org/studentpage/studentpagehold_assets/video%20tutorial.pdf" TargetMode="External"/><Relationship Id="rId3" Type="http://schemas.openxmlformats.org/officeDocument/2006/relationships/hyperlink" Target="http://www.e3t.org/studentpage/studentpagehold_assets/video%20tutorial.pdf" TargetMode="External"/><Relationship Id="rId4" Type="http://schemas.openxmlformats.org/officeDocument/2006/relationships/hyperlink" Target="http://www.youtube.com/watch?v=tZLuL2MUtt0&amp;feature=related" TargetMode="External"/><Relationship Id="rId5" Type="http://schemas.openxmlformats.org/officeDocument/2006/relationships/hyperlink" Target="http://www.ehow.com/how_4546191_use-flip-camera.html" TargetMode="External"/><Relationship Id="rId6" Type="http://schemas.openxmlformats.org/officeDocument/2006/relationships/hyperlink" Target="http://puredigital.custhelp.com/cgi-bin/puredigital.cfg/php/enduser/std_adp.php?p_faqid=31&amp;p_created=1206062496&amp;p_sid=a3I-nQnj&amp;p_accessibility=0&amp;p_redirect=&amp;p_lva=&amp;p_sp=cF9zcmNoPSZwX3NvcnRfYnk9JnBfZ3JpZHNvcnQ9JnBfcm93X2NudD0zMTIsMzEyJnBfcHJvZHM9JnBfY2F0cz0" TargetMode="External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hyperlink" Target="http://classes.yale.edu/fractals/FracAndDim/BoxDim/PowerLaw/CrumpledPaper.html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ip C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2895120"/>
            <a:ext cx="6629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areas of minor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o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481640" y="2548080"/>
          <a:ext cx="182520" cy="1761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76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51000" cy="26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162920" y="380880"/>
            <a:ext cx="1790640" cy="4686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5715000"/>
            <a:ext cx="9067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all Davidson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Hall_Davidson@Discover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discoveryedspeakersbureau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26080"/>
            <a:ext cx="2362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theflip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336840" y="930240"/>
            <a:ext cx="5807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Flip Cam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their menu.  Beware of cr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987880"/>
            <a:ext cx="739152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e3t.org/studentpage/studentpagehold_assets/video%20tutorial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 there for more det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3322800" cy="3429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0" t="3958" r="0" b="0"/>
          <a:stretch/>
        </p:blipFill>
        <p:spPr>
          <a:xfrm>
            <a:off x="3276720" y="2362320"/>
            <a:ext cx="4886280" cy="3695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438280" y="1523880"/>
            <a:ext cx="121932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12040" y="380880"/>
            <a:ext cx="55404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305920" cy="4881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09680" y="457200"/>
            <a:ext cx="58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Flip Cam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987880"/>
            <a:ext cx="739152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e3t.org/studentpage/studentpagehold_assets/video%20tutorial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12040" y="380880"/>
            <a:ext cx="55404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560" y="533520"/>
            <a:ext cx="5248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open menu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use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555640" cy="2667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5800" y="1981080"/>
            <a:ext cx="93816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438280" y="2286000"/>
            <a:ext cx="6248520" cy="4005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371600" y="2438280"/>
            <a:ext cx="510552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2040" y="228600"/>
            <a:ext cx="55404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3276720"/>
            <a:ext cx="2819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fol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FlipCam contents.  It’s like a big USB drive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560" y="533520"/>
            <a:ext cx="524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open menu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6248520" cy="4005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477120" y="2666880"/>
            <a:ext cx="1447560" cy="10670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12040" y="228600"/>
            <a:ext cx="55404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3276720"/>
            <a:ext cx="2819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CI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the folder with the video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560" y="533520"/>
            <a:ext cx="524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open menu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1749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362320" y="1905120"/>
            <a:ext cx="2361960" cy="12189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12040" y="228600"/>
            <a:ext cx="55404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4267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Vid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lder inside DC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560" y="533520"/>
            <a:ext cx="524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open menu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1749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5467320" cy="3076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312040" y="228600"/>
            <a:ext cx="55404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4648320"/>
            <a:ext cx="2286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the video file you want to your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5562720"/>
            <a:ext cx="13716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61722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all the video files on your FlipC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1981080"/>
            <a:ext cx="4572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e if the video file will open. If you get an error message, there is an ea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000" y="457200"/>
            <a:ext cx="699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*A Necessary Troublesh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0" y="1905120"/>
            <a:ext cx="4572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open and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7320" y="533520"/>
            <a:ext cx="745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ile from Flipcam on Desk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3429000" cy="3101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6440" y="6477120"/>
            <a:ext cx="114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s: hdavids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8120" y="53352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ile on Desk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3429000" cy="3101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4952880" cy="24512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If you get this message, you must change the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5715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The video will play if you click yes.  But you won’t be able to edit it in MovieMaker, Adobe Premier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048120" y="53352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ile on Desk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3520" y="2862360"/>
            <a:ext cx="2989080" cy="2703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752480" y="3929040"/>
            <a:ext cx="4724640" cy="23385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23920" y="2057040"/>
            <a:ext cx="3505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he file extension to solv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3880" y="304920"/>
            <a:ext cx="56390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Emo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you get people to feel comfortable on came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257800"/>
            <a:ext cx="6781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 never thought $150 would change my life.  But it did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assroom teacher, Los Ang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2057400"/>
            <a:ext cx="54864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rite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 don’t want to be tap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folks take ‘personal videos’ of home/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y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8120" y="53352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ile on Desk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43400" y="1676520"/>
            <a:ext cx="4572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ght click on fil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name extension from .wmv to .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863800" cy="4495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715000" y="4724280"/>
            <a:ext cx="2590920" cy="1886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581280" y="5334120"/>
            <a:ext cx="2286000" cy="6858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5638680"/>
            <a:ext cx="761760" cy="83844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6019920"/>
            <a:ext cx="5181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Change the file extension on Mac’s, too, to use in Power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52480" y="2362320"/>
            <a:ext cx="6019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How to Mask Faces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ieMaker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ther programs work and have more options but this one is fr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7400" y="533520"/>
            <a:ext cx="456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ing editing w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ipCam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8120" y="533520"/>
            <a:ext cx="47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pen Movi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943600" y="1599840"/>
            <a:ext cx="2819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MovieMaker, open the video file (“Add to Collection”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so import directly from camer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reat ‘How To’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df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0" y="1219320"/>
            <a:ext cx="5715000" cy="3413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4114800" y="4800600"/>
            <a:ext cx="2503440" cy="1873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133720" y="3962520"/>
            <a:ext cx="312408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8120" y="533520"/>
            <a:ext cx="47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pen Movi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43600" y="1676160"/>
            <a:ext cx="2819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video clip to timelin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’re ready to edit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orials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-12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tomic Learning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isual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457200" y="2438280"/>
            <a:ext cx="5429160" cy="3429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280" y="6172200"/>
            <a:ext cx="640080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3t.org/studentpage/studentpagehold_assets/video%20tutorial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494960" y="60948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vi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72200" y="1523880"/>
            <a:ext cx="28195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“Split Clip” control to isolate segment you need to bl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‘playhead’ at beginning, then end, of segment to isol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Split 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trl+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218040" cy="4343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rcRect l="0" t="82761" r="17724" b="0"/>
          <a:stretch/>
        </p:blipFill>
        <p:spPr>
          <a:xfrm>
            <a:off x="1066680" y="4648320"/>
            <a:ext cx="4953240" cy="1915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H="1">
            <a:off x="1600200" y="3276720"/>
            <a:ext cx="4038480" cy="1752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361960" y="3276720"/>
            <a:ext cx="3276360" cy="19047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6440" y="6477120"/>
            <a:ext cx="114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s: hdavids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494960" y="60948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vi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05160" y="16761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Eff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“witness protection” eff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sk student face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ess dramatic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ma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ax mask)</a:t>
            </a:r>
            <a:br>
              <a:rPr sz="2400"/>
            </a:b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Deeper control in Pinnacle, Adobe Premiere, iMovie plug-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3591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494960" y="60948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vi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867280" y="1676160"/>
            <a:ext cx="2819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effect down to segment on timeline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r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 will “blur” every frame in the segment you select.  The video will still mov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3591000" cy="66294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2280" y="0"/>
            <a:ext cx="1295640" cy="1600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760" y="1523880"/>
            <a:ext cx="75960" cy="4267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494960" y="60948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vi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866920" y="1676160"/>
            <a:ext cx="3124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effect down to segment on timelin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Exampl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color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 will “watercolor” every frame in the segment you select.  The video will still mov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4438800" cy="2333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rot="423000">
            <a:off x="0" y="3733920"/>
            <a:ext cx="1447920" cy="13716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4724280"/>
            <a:ext cx="144792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6440" y="6477120"/>
            <a:ext cx="114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s: hdavids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494960" y="60948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vi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162920" y="2209320"/>
            <a:ext cx="1752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video imag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647676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494960" y="60948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vi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62920" y="2209320"/>
            <a:ext cx="1752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r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64008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43200" y="1295280"/>
            <a:ext cx="5867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Shoo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Moving files to comput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Edit (to enhan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343400"/>
            <a:ext cx="4648320" cy="34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 ‘How To’ pdf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Tube Tutorial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pare to fast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to Getting Sta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533520"/>
            <a:ext cx="603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Technical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494960" y="60948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vi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162920" y="2209320"/>
            <a:ext cx="1752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color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640080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62120" y="9907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dd titles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3. Add a nar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81320" y="1905120"/>
            <a:ext cx="21337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itles, credits, or introductions to segments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105440" cy="26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4152960" cy="2838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962520" y="3581280"/>
            <a:ext cx="4047840" cy="26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0" y="6248520"/>
            <a:ext cx="6248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 from MovieMaker help menu “Titles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22860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sing editing with FlipCam v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762120" y="9907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dd ti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200400" y="914400"/>
            <a:ext cx="1438200" cy="91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876920" y="914400"/>
            <a:ext cx="1455480" cy="9954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6629400" y="914400"/>
            <a:ext cx="1417680" cy="92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762120" y="22860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sing editing with FlipCam v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4724280" y="1981080"/>
            <a:ext cx="3886200" cy="370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57200" y="1828800"/>
            <a:ext cx="2297160" cy="3733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666880" y="2438280"/>
            <a:ext cx="20574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s and Credi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your location, then add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rcRect l="0" t="65000" r="0" b="0"/>
          <a:stretch/>
        </p:blipFill>
        <p:spPr>
          <a:xfrm>
            <a:off x="3200400" y="4572000"/>
            <a:ext cx="323208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5" name=""/>
          <p:cNvSpPr/>
          <p:nvPr/>
        </p:nvSpPr>
        <p:spPr>
          <a:xfrm>
            <a:off x="228600" y="1447920"/>
            <a:ext cx="36576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ph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reate at nar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rcRect l="0" t="0" r="0" b="70004"/>
          <a:stretch/>
        </p:blipFill>
        <p:spPr>
          <a:xfrm>
            <a:off x="3200400" y="2585880"/>
            <a:ext cx="323208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228600" y="2509920"/>
            <a:ext cx="2666880" cy="244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685800" y="5410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narration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38280" y="2895480"/>
            <a:ext cx="9144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6019920"/>
            <a:ext cx="205740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2819520"/>
            <a:ext cx="990720" cy="9144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81680" y="4648320"/>
            <a:ext cx="22860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 cli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he Flipcam clip audio line to adjust clip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105520" y="6019920"/>
            <a:ext cx="1752480" cy="759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7920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dd a nar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302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sing editing with FlipCam v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0880" y="304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microphone, create at nar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228600"/>
            <a:ext cx="21337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 on the Flipcam clip audio line to adjust clip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0" t="67504" r="0" b="0"/>
          <a:stretch/>
        </p:blipFill>
        <p:spPr>
          <a:xfrm>
            <a:off x="228600" y="914400"/>
            <a:ext cx="5181480" cy="317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943600" y="2286000"/>
            <a:ext cx="2824200" cy="4572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flipH="1">
            <a:off x="4952880" y="1447920"/>
            <a:ext cx="1447920" cy="1371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3600" y="5257800"/>
            <a:ext cx="1371600" cy="9144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380880" y="4267080"/>
            <a:ext cx="4343400" cy="20415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 flipH="1">
            <a:off x="4800240" y="5638680"/>
            <a:ext cx="1143000" cy="76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ip C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990360" y="2895120"/>
            <a:ext cx="6629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it a t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481640" y="2548080"/>
          <a:ext cx="182520" cy="1761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76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51000" cy="26668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162920" y="380880"/>
            <a:ext cx="1790640" cy="4686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80880" y="5486400"/>
            <a:ext cx="9068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ll Davidson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all_Davidson@Discover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scoveryedspeakersbureau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4267080"/>
            <a:ext cx="6782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 never thought $150 would change my life.  But it did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assroom teacher, Los Ang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526080"/>
            <a:ext cx="2362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theflip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5120" y="1371600"/>
            <a:ext cx="548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Be careful of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igh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the background – the camera’s eye is like the human iri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Sound does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zo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343400"/>
            <a:ext cx="46483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reat ‘How To’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df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YouTube Tutorial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pare to fast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ow to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Link to Getting Sta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7040" y="457200"/>
            <a:ext cx="64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hooting –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y two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124440" cy="2343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80880" y="335268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419720" y="3352680"/>
            <a:ext cx="3174840" cy="2381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038480" y="83808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light in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windows, l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22860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ame camera, same time of day—only difference:  the background ligh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60958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ck garment bag hung over window    -    Light gauzy curtains pu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809880" y="5486040"/>
            <a:ext cx="533520" cy="6858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7619760" y="5486040"/>
            <a:ext cx="533160" cy="6858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440" y="647712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: hdavids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20001" t="0" r="10668" b="9335"/>
          <a:stretch/>
        </p:blipFill>
        <p:spPr>
          <a:xfrm>
            <a:off x="228600" y="1905120"/>
            <a:ext cx="3962520" cy="3886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993000" y="3200400"/>
            <a:ext cx="215100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419720" y="2514600"/>
            <a:ext cx="1295280" cy="1141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800600" y="3352680"/>
            <a:ext cx="1295280" cy="1141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5486400" y="4038480"/>
            <a:ext cx="1295280" cy="1141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572000" y="4648320"/>
            <a:ext cx="1295280" cy="1141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rcRect l="0" t="0" r="29734" b="0"/>
          <a:stretch/>
        </p:blipFill>
        <p:spPr>
          <a:xfrm>
            <a:off x="5334120" y="5334120"/>
            <a:ext cx="1981080" cy="1060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895480" y="6324480"/>
            <a:ext cx="62485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paper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classes.yale.edu/fractals/FracAndDim/BoxDim/PowerLaw/CrumpledPape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4191120"/>
            <a:ext cx="289548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2057400"/>
            <a:ext cx="1752480" cy="1905120"/>
          </a:xfrm>
          <a:prstGeom prst="ellipse">
            <a:avLst/>
          </a:prstGeom>
          <a:noFill/>
          <a:ln w="2844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3276720"/>
            <a:ext cx="1218960" cy="1295280"/>
          </a:xfrm>
          <a:prstGeom prst="ellipse">
            <a:avLst/>
          </a:prstGeom>
          <a:noFill/>
          <a:ln w="2844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4419720"/>
            <a:ext cx="1371600" cy="1447560"/>
          </a:xfrm>
          <a:prstGeom prst="ellipse">
            <a:avLst/>
          </a:prstGeom>
          <a:noFill/>
          <a:ln w="2844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4191120"/>
            <a:ext cx="1828800" cy="0"/>
          </a:xfrm>
          <a:prstGeom prst="line">
            <a:avLst/>
          </a:prstGeom>
          <a:ln w="57240">
            <a:solidFill>
              <a:srgbClr val="8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5181480"/>
            <a:ext cx="2514600" cy="1447920"/>
          </a:xfrm>
          <a:prstGeom prst="ellipse">
            <a:avLst/>
          </a:prstGeom>
          <a:noFill/>
          <a:ln w="2844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808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hatever is closest to the camera, you hear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362320"/>
            <a:ext cx="2895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e voice you w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9920" y="2514600"/>
            <a:ext cx="2895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e sound you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143000"/>
            <a:ext cx="45720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ces or crunching paper noise closer to camera will be heard.  But don’t sweat ambient noise too much!  It’s part of the experi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48520" y="2209680"/>
            <a:ext cx="4572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to U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53352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ve video files to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6324480"/>
            <a:ext cx="73915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: http://www.kassblog.com/media/3/20080727-flip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abnol.org/wp/images/2008/05/usb-video-camer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2448000" cy="2895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19320" y="259092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520" y="380880"/>
            <a:ext cx="674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B menu – Two Cho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913200" cy="4038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394344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666880" y="5867280"/>
            <a:ext cx="40388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PC example.  Macs are different, but the same principle hold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4920" y="5715000"/>
            <a:ext cx="55404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35520" y="5715000"/>
            <a:ext cx="55404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520" y="380880"/>
            <a:ext cx="674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B menu – Two Cho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913200" cy="4038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394344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800600" y="3962520"/>
            <a:ext cx="1447920" cy="106668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4920" y="5715000"/>
            <a:ext cx="55404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35520" y="5715000"/>
            <a:ext cx="55404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59436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” is the preferred metho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8:02:44Z</dcterms:created>
  <dc:creator>hdavidso</dc:creator>
  <dc:description/>
  <dc:language>en-US</dc:language>
  <cp:lastModifiedBy>hdavidso</cp:lastModifiedBy>
  <dcterms:modified xsi:type="dcterms:W3CDTF">2009-01-15T02:14:55Z</dcterms:modified>
  <cp:revision>20</cp:revision>
  <dc:subject/>
  <dc:title>Flip Cam Getting Started</dc:title>
</cp:coreProperties>
</file>